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56026E6-C125-454A-8448-85A17CEA427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8A19A83A-51E9-4441-9F29-921DD4941DA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71BE9951-098D-48D4-B25E-58EABE723AE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5DC988BC-108C-4ED8-971D-E0ACD10B37E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0C24A87E-D8F2-4E8B-A717-988B4D48081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58DD73-D100-4634-B8D2-A0788813561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3474B4D4-5D3F-4B61-9CEA-2C0AF1B7F7D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A091B4E1-2512-471D-93E0-035908F44A6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85ED8B1E-4220-43A8-92CB-278F3E86CE6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5D34B21-1A25-4554-85FD-1E8D342C9F4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E2B1F97-F648-4988-90AD-86B276BC6A6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BE8EC6E-6006-4224-B94F-3EB46D4681C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50FD43-FD0D-42DC-A48D-2AB56415EE7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DCA05FF-51B6-41EE-A1A3-281E7E931D37}"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D266E84-1E27-48BB-A474-A75D934535A2}"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D149854-00EF-48CE-A20F-5B6C90D80848}"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33603F7-10D8-4B3D-9CBB-D56D84D98007}"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EDC13F-9364-4E9D-97A1-940A50B53698}"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A979D0-6659-4DC4-BFAB-11B5E8154A1D}"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4D94CEF-EC6D-40F0-9940-ED9554FE0B7E}"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E23296-B928-4ABE-9279-BF2A8AAE3AF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CA8051-3A96-45F1-A56D-ACDF64C3FCF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821E89A-7610-4B5B-98A1-98576D729BE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6E826C-4ED9-4EC0-8FFD-CD678C0828C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BB90FEF-09CA-45CA-AA0C-369B6113011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8F6C98D-7330-4ED6-A9C5-6BE3B8906CD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93C1606-882C-45EE-9FFE-E0F15E1CCB9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A54119-63AB-4620-834A-FE6840080BF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1BC3085-E02F-4D53-9D1E-991F667154A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8A1F335-6106-40ED-85DF-9AF236905D8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7A33DE-61DA-435D-B250-EC7549EC350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038D07-6A59-4CC2-8C16-13BC7F8BEA1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6A787B-7283-419C-830D-362631C8FD4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4C27352-323A-443E-98F7-0141A6FC5E1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17A94BE-2EC3-401A-BDD7-7681BCB6B8B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907253C-EB5D-4BD8-88D3-A9A6DB1C60E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5856E1A-D82A-4654-B57F-CFDC29652E9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E605FE-31E4-470F-BB4D-EE7B5AC68D2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F9DE1B8-1B1E-4BE1-9365-777E3DF3B8E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43E1342-3D2B-468C-AEB8-C590336C08D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628E8B-87C7-4DD6-AB6E-73DFFE94BE3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3AEE942-EF2D-461D-BAFE-6FA257AECE0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191579-8513-499D-948F-AA57D3A8A98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D5FB726-6F66-471F-9D71-95CE8A97A48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D2D817-59F5-4F25-97FF-C6BDAB6F297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4DA1651-56D4-422E-BAB2-DF5CACBA6A7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BC7237-09BB-4EDA-B165-6DEF623574C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413F4E7-DC85-423D-B1FC-E443DF07474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54EBF3-DBD4-44F4-B402-5F6242869DA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435B2E-594F-4F2C-8361-4B9ACA4D9731}"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13FE1CF1-72FB-4044-914F-F992D35FDFBC}"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32E7FE-50F1-4B21-8B69-4D81009C0F6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1E0102-3F56-46E1-A6A3-FF73F7EA5F6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AC4479-984E-4172-AD3C-556C94FB436A}"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B29BA4-2E00-4E58-8052-A832BBC24C78}"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E656160-DCD1-495D-8DBE-CEF698591C2B}"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F00E1E-7A4A-437D-9CEE-C5A3FFE092E0}"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772C4F-0478-440E-8ED9-F48FCAD16935}"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3A46C6F-B57D-44A5-B2E5-7E0FB37D09DC}"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0D2378-A588-4A49-8549-E0DABDFCA1D8}"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3EE5B884-7EF2-4531-94E6-BCF0CE9D9FDA}"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EE6AD94-D009-45FB-B467-7D41A6F33EE3}"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64487C6-4AB2-4073-ADE4-CB5839FF7C1C}"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6EBE19-5EA8-471F-B182-4E9EACACF70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97AEBE-AF1F-4102-A5A2-A83475447B7B}"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4A6FEB3-E4F7-4E4C-B4ED-D11B3A5E96B2}"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79A0AA-B8F6-4903-831A-E3C86B48C772}"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0CF4E9-CC5C-49FE-9E1D-63D660881FB1}"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AB8B6A5-31BA-466A-84A6-B4B6EB85D186}"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0A589C-56B8-467A-B9AC-8812E3E4C928}"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81B6E5-6DD2-4D2D-975B-35DD97403CD5}"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E2CEEB77-6233-4B0A-BD36-7A26E1340B4A}"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D8CDED6-419B-48E2-9E98-E597DF9EDB41}"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419DDE-184B-4101-B839-2F4A0C5BE5B0}"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48D59A1-FBEA-4CB7-BD4B-D049DDA80B5A}"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14212DB-6AD1-4467-B8F4-2BF23FB4B716}"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3E63B2-1D5C-49EA-8BBA-7784532673C3}"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674928-371E-4017-AB5C-DF322E010BA1}"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0FABDA-BE73-4AEE-966E-1B2D39D790D2}"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1704AC8-5861-4D77-8053-9492537E3E04}"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BE7B8F8-4537-4F48-AF3A-B6BFC3B08A1F}"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2A2E2E-0780-421E-BFF9-9FF1B0F8EB5D}"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958A3D-9BA2-463E-BE63-7DEEAC6CB9E9}"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14AE2B3-613B-492F-AE8A-42A2253C1C58}"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9366ED-B35A-42B4-93FB-AFAF2CB84AC9}"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FFC3BCB-54DD-4FD2-8A91-B6829EADC28B}"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BD26820-3E4F-4F08-9BE8-5F0AF5E4B171}"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FE45EA3-4C9C-4E7F-B804-69A423CB649A}"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EC59992-08DE-41C0-8054-6F785065ED46}"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A20D23-456F-4889-B90A-6571670FB7B9}"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3DB24E8-BC43-4EEC-BC84-1483D62AA480}"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203CBF-53E0-4B15-836F-E39B502A1682}"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C9DEF4-3FEA-4634-9237-D786D6E3BAAD}"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07AA10-09E8-432B-B928-2F081848B035}"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A9E86E-CA7B-459E-857A-96F557156DE9}"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552F6E-3187-4C93-8F0D-80541ADFF5E7}"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1E0024-DDEA-471E-983A-C5E504E88BEC}"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F79AF20-7B4F-42AB-A306-BBFF7DB09FCB}"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3834C7-044E-4719-88F4-B402C185E42E}"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914E09-4D64-4702-AF6A-398F694475D9}"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BF6EBE1-5201-4030-AB77-CD1E973E1515}"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EDE5D4-A381-4495-9BD5-15E370F55987}"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17E87E3-9D8C-4F33-B947-05B0B94F649C}"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DA3A69-5037-45E2-959F-686759E0CFAA}"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DACA32A-3292-4906-85B9-DB34C639F531}"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DF15679-33B1-4B63-AED0-BD7671F281B9}"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4DB681-E6D3-48C9-B1B2-57821165E1BA}"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DEBB43A-8E76-4A31-A113-82D73A579561}"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FD578B-7D67-428A-8813-0B699ABAACE9}"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9761A7F-8310-4086-AA2A-BFBBE0C5D954}"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82B116-71BE-4CB9-8CF3-D9EC43A1DCD6}"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C28F3DE-0880-461B-92F9-9DEE76A42A0C}"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CBF20C-7556-4B43-83BA-A112292115AC}"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C54EBDE-BBEA-4CAD-9917-527D32024D3C}"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B99647-FD24-4C43-B1FB-D7295DF37284}"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9B5D66-87CA-4B05-B64F-CD1F792A12CA}"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6BB4D84-941B-4625-98C0-635EE622B373}"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