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92788"/>
        <c:axId val="59048959"/>
      </c:barChart>
      <c:catAx>
        <c:axId val="10092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48959"/>
        <c:crosses val="autoZero"/>
        <c:auto val="1"/>
        <c:lblAlgn val="ctr"/>
        <c:lblOffset val="100"/>
        <c:noMultiLvlLbl val="0"/>
      </c:catAx>
      <c:valAx>
        <c:axId val="59048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92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8B4-E051-4B64-B424-7E3A9BC3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3C6-1A3A-4D63-909C-395AB0A3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0CB-FEA6-4EBB-B323-E64BC30E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8C9-6368-4171-A8BD-CC45A1C4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C74-3792-4C78-B11F-CEAC7C6D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63F-3C01-4BB0-AAD8-69FDAAF7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D39-1187-4885-89BA-D9D45B63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9F2-ED18-4FE3-AC3B-4E242918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C76-622C-4FD2-A154-FF316C96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484-4CC9-4A83-AF08-F23DCF3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664-6531-423C-B9CC-821950A8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EF9-E33E-452A-B21B-2A59ED1D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623C9-C511-499F-B9D9-A0C3DE5BC0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