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42243"/>
        <c:axId val="14277367"/>
      </c:barChart>
      <c:catAx>
        <c:axId val="12042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77367"/>
        <c:crosses val="autoZero"/>
        <c:auto val="1"/>
        <c:lblAlgn val="ctr"/>
        <c:lblOffset val="100"/>
        <c:noMultiLvlLbl val="0"/>
      </c:catAx>
      <c:valAx>
        <c:axId val="14277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42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A92-47AE-48BF-B5BC-71C38753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D8F4-C67D-4C09-AFCF-83904BB1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825-73F1-4341-909A-FF1559DB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ACB-E693-4EBC-86FB-C6F2EC1D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A04-7EE3-435D-B72F-FCFC65FC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55E1-9F99-47E2-8538-2D4FD361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5BCB-4922-46B8-84B6-942F7D6F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23BF-21D8-449E-A30F-75B537A7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AD7-E3FD-4A27-8968-63EDD078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52C-9FEE-467A-A0F6-4CDC5E06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380-9E52-4E13-96C8-3F5D93A9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06E-884F-43AD-885C-1BEF7121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3E52E-1561-4B71-979D-D790758626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