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09115"/>
        <c:axId val="55661596"/>
      </c:barChart>
      <c:catAx>
        <c:axId val="87209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61596"/>
        <c:crosses val="autoZero"/>
        <c:auto val="1"/>
        <c:lblAlgn val="ctr"/>
        <c:lblOffset val="100"/>
        <c:noMultiLvlLbl val="0"/>
      </c:catAx>
      <c:valAx>
        <c:axId val="55661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9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B2A-C38B-4EEA-A94D-54299060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4A4-0CF6-4105-B9A2-F2BE0FD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8C8-1264-4389-98A7-9C21453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BBC-8F2C-4BD5-8BEB-4E298409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A39-7A12-4F48-AA40-D54AFAC7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78E-A96E-4A2B-AF2A-E1BCCFC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DF1-17AA-4E43-B048-F111536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669-CA7E-4B1E-BC7A-7E37357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D16-F351-40B5-8314-D47592F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5AB-F6B2-4ADA-8E83-252E7AB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952-8A2E-4463-8E9A-E68D90C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E86-4411-4624-B8A2-5E7DE8A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8AB18-5CC4-4289-B4B6-C985BB22A8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