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0683"/>
        <c:axId val="42281802"/>
      </c:barChart>
      <c:catAx>
        <c:axId val="1710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1802"/>
        <c:crosses val="autoZero"/>
        <c:auto val="1"/>
        <c:lblAlgn val="ctr"/>
        <c:lblOffset val="100"/>
        <c:noMultiLvlLbl val="0"/>
      </c:catAx>
      <c:valAx>
        <c:axId val="42281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21C-BB10-4FBA-B38D-64D05B59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6EC-D5F8-496D-A2CA-6B93B69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168-D9FA-4866-A338-ECDF7C39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22C-DA24-4F91-913C-86985BAF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DBB-9C27-4D4C-B6BF-1D4CA95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1A3-B3FA-48CB-951D-C9F93BF3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DDC-A678-42CF-A139-6889FCEC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D65-D501-44FA-BD23-184CF0C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A55-E93F-4028-A3CD-79C3388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CEB-7197-410C-BDFC-8BCDC33D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CE4-8136-4A31-9990-79371E2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911-D24B-4BD0-888E-78A24BF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3282C-9D3D-4289-81B6-7B135A13A2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