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332451"/>
        <c:axId val="40972685"/>
      </c:barChart>
      <c:catAx>
        <c:axId val="163324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72685"/>
        <c:crosses val="autoZero"/>
        <c:auto val="1"/>
        <c:lblAlgn val="ctr"/>
        <c:lblOffset val="100"/>
        <c:noMultiLvlLbl val="0"/>
      </c:catAx>
      <c:valAx>
        <c:axId val="40972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324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350-9F3C-445B-B134-EBABFFE4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FE8-4AEA-4935-B102-E55E965B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8BE-2626-48B2-B119-6934696A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A41-D34E-49F8-A3C8-E44F2C70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3D47-C007-4CF8-89FB-5A2AEA9E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DD45-023E-464B-B915-A627FA2B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5562-1390-4D82-9646-D0902B9D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4316-7A87-47BF-A698-67BB7B2C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53F0-2908-49CD-B3E9-000F217B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3CD2-0294-4485-9D48-8746BEC9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5E0-9B5F-4F9F-8AEF-BD5F1073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5E38-041B-4CF4-A601-5FD490D6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78BA3C-9E4F-4A70-82FA-D56186A776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