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9184"/>
        <c:axId val="10436427"/>
      </c:barChart>
      <c:catAx>
        <c:axId val="3519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36427"/>
        <c:crosses val="autoZero"/>
        <c:auto val="1"/>
        <c:lblAlgn val="ctr"/>
        <c:lblOffset val="100"/>
        <c:noMultiLvlLbl val="0"/>
      </c:catAx>
      <c:valAx>
        <c:axId val="10436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9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F6A-A597-4F74-975B-76613517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E91-4645-465B-822C-50B6FE8A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7B7-3F62-4245-92AB-AD62AA25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5ED-CD97-4813-9A91-074F0118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F83-0932-4C04-8BAA-59742951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337-1887-4C8B-9008-94B81D9F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D1D-EA8C-4248-8836-AF0C5480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7DB-DFF0-48AF-8994-C46586EB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8D1-5D07-41B0-9606-46D95FBB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176-ECDC-449A-AAC0-CCBF3715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DE4-522A-44DF-8AEC-FE403562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ED5-3BF2-417D-8585-496E10F2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D7B12-FB24-4E29-B4EC-B8CF5823F8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