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26809"/>
        <c:axId val="40034280"/>
      </c:barChart>
      <c:catAx>
        <c:axId val="60626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34280"/>
        <c:crosses val="autoZero"/>
        <c:auto val="1"/>
        <c:lblAlgn val="ctr"/>
        <c:lblOffset val="100"/>
        <c:noMultiLvlLbl val="0"/>
      </c:catAx>
      <c:valAx>
        <c:axId val="40034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26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63D-E99A-4FAD-A960-FC7050C4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2765-84B2-449B-B8B0-6F4279EF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455-B5F5-417D-BE39-3CA31505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4E0-9A77-484F-97B9-1828F18A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4ABF-A169-484F-A9BE-1F547293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0C13-C98A-482E-BE63-D9307CF5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A59-4A66-4288-BEEE-6F2E7FE5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A4A-1DA8-4059-903C-0DC98075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4F99-84F0-4566-81A0-98C6062C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468-F8A3-48EF-807C-4248C7B4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8BA5-14B2-4200-8FEA-8B8A645B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F34C-25E7-4343-B7D9-281394FA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B7C20-7657-416F-8D62-C901CED159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