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660599"/>
        <c:axId val="59151823"/>
      </c:barChart>
      <c:catAx>
        <c:axId val="136605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51823"/>
        <c:crosses val="autoZero"/>
        <c:auto val="1"/>
        <c:lblAlgn val="ctr"/>
        <c:lblOffset val="100"/>
        <c:noMultiLvlLbl val="0"/>
      </c:catAx>
      <c:valAx>
        <c:axId val="591518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605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AC15-6DAC-4EF9-A600-F9B0C77CF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727B-44C6-4404-B226-4FD9706B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CBF1-C5A8-4A57-95A6-F2BC6BBF0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D180-E0E9-40FB-9190-2E41229C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DF9C-C52F-4B2C-8AA8-0196C580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60FD-5705-46C3-B316-FD2FFF7F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078A-7CD9-4E2A-AD06-BFE0B66B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AE4F-6504-403F-8EDD-918DFE9B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70E9-71BF-40EA-B990-2A25D5B7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F5DE-BCDC-4D7C-8AB8-BFF2ACE0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E99E-9749-4E3C-87A9-22FA131A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A549-2304-4E87-9D61-E9A4DA70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663F0-1F1B-466E-982A-1CDC892E0C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