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81795"/>
        <c:axId val="17705573"/>
      </c:barChart>
      <c:catAx>
        <c:axId val="43481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5573"/>
        <c:crosses val="autoZero"/>
        <c:auto val="1"/>
        <c:lblAlgn val="ctr"/>
        <c:lblOffset val="100"/>
        <c:noMultiLvlLbl val="0"/>
      </c:catAx>
      <c:valAx>
        <c:axId val="17705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81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DC9-A708-4B48-95D9-A9DF084C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F35-82BD-48B3-8BA0-E367EB1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515-5614-4AE5-878E-D0B44826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5FC-767A-4090-9711-F95EDAD6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F87-FD7D-47FA-BFA1-CD3305A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8FB-B33E-4DBF-BE74-49490E9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A63-1EDB-41CC-B3A1-9560411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A01-749B-4EFC-98CA-D7FDD793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E24-2C3D-413F-8D20-D4C55289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D20-4B85-4F1E-9C24-77D4495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155-8594-47B5-AC4F-AF29A10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31E-63E1-45D3-AA6D-5AF6AB9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F6898-83BF-4AE8-BF38-9F34C434B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