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89953"/>
        <c:axId val="28040008"/>
      </c:barChart>
      <c:catAx>
        <c:axId val="42489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0008"/>
        <c:crosses val="autoZero"/>
        <c:auto val="1"/>
        <c:lblAlgn val="ctr"/>
        <c:lblOffset val="100"/>
        <c:noMultiLvlLbl val="0"/>
      </c:catAx>
      <c:valAx>
        <c:axId val="28040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9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87A-8D59-4E95-9061-DB1EC5B0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40B-121F-4A21-A1CE-B0750A66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FE6-DB62-4724-9291-03A2E122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664-E2BA-4E22-B05F-9278328C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A42-5509-48B7-9B04-FEE4F6C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D42-3AFA-4A3C-B0FF-4825933F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421-6A6F-4F6F-8076-8D030E2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185-BAA9-4C19-9BAA-267CABD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254-9EC7-4D71-968F-718DF0D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E75-271C-4AF1-92DA-E9B1B2C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BCF-8147-454D-BAA5-5BDDF76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BFE-5837-4D85-8921-AC64E9B5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7872B-CCD1-4767-9713-E823481D32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