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63829"/>
        <c:axId val="24820733"/>
      </c:barChart>
      <c:catAx>
        <c:axId val="20663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20733"/>
        <c:crosses val="autoZero"/>
        <c:auto val="1"/>
        <c:lblAlgn val="ctr"/>
        <c:lblOffset val="100"/>
        <c:noMultiLvlLbl val="0"/>
      </c:catAx>
      <c:valAx>
        <c:axId val="24820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63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484-393A-4FB3-A631-9999EF33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FF67-B5AD-486E-A57A-EC1F6215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8B1-73CF-4351-A67F-6E54B751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0A1-8110-4F4F-B217-2ED1AD41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1E0-B809-48FD-A55B-3ABEFD53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712-6171-4138-962E-ABF04C6E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D79-BD07-4400-AFCC-C2A5F67C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A81-56AE-434D-9EFB-C42B05B3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F0C-D634-415B-B4DF-AC072C87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44A-54B5-4790-83D4-741C9E79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A05-A935-4EF1-A78F-20ADCDB1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094-16D8-45C4-9151-CBA53EDA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2E8B0-50FC-4BE5-8344-1DCCE2E3FE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