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11943"/>
        <c:axId val="44777806"/>
      </c:barChart>
      <c:catAx>
        <c:axId val="23811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77806"/>
        <c:crosses val="autoZero"/>
        <c:auto val="1"/>
        <c:lblAlgn val="ctr"/>
        <c:lblOffset val="100"/>
        <c:noMultiLvlLbl val="0"/>
      </c:catAx>
      <c:valAx>
        <c:axId val="44777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11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9C8-DD15-40AE-AA8C-1B6C54F2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777-4949-4F11-B716-D793CE5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721-4C2C-4684-A222-EE1347D1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C22-CE61-447C-8BF5-20459628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4A5-9613-4138-B465-61A104E4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168-297A-465A-A2E7-2DAD69A0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C04-31F3-4F98-B408-E86DC34B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0DC-2FB0-4261-8BD4-2E7355ED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B22-5C4D-4E84-9B3B-BE05FDC8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812-65FA-4E89-B55A-3CF9485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C2D-1AFC-422B-A450-E518E7D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F9D-C5CD-46F4-B01D-F545D50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7EE13-9F87-4B01-AEEC-1AAF7DB600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