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9317618"/>
        <c:axId val="14635678"/>
      </c:barChart>
      <c:catAx>
        <c:axId val="7931761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635678"/>
        <c:crosses val="autoZero"/>
        <c:auto val="1"/>
        <c:lblAlgn val="ctr"/>
        <c:lblOffset val="100"/>
        <c:noMultiLvlLbl val="0"/>
      </c:catAx>
      <c:valAx>
        <c:axId val="1463567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31761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6BC8-D998-4490-A8FD-27C7403B2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C2B0-7AD3-4403-B923-5888EF528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21DE-01DA-42A8-85B6-B7174DA2D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6A65-DD61-4DA5-AB62-1F5D5A824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7071-AF96-46AB-AA21-F4B1200AC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0230-BCAF-4102-B7FB-DC3A838F8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38E9-C41D-4060-9125-C1407A5C4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7BE4-2B45-448B-A9B4-724910513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964B-B7C6-4660-A8E6-CEE0455EE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95C4-E809-422F-83E7-A1C8D5BA4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084C-A84D-43E3-8A94-851C325CD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5867-166E-4188-B38B-640B4E737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1A62F0-B80E-4FB5-8328-A54EA23C7C5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