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37610"/>
        <c:axId val="16211586"/>
      </c:barChart>
      <c:catAx>
        <c:axId val="38037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11586"/>
        <c:crosses val="autoZero"/>
        <c:auto val="1"/>
        <c:lblAlgn val="ctr"/>
        <c:lblOffset val="100"/>
        <c:noMultiLvlLbl val="0"/>
      </c:catAx>
      <c:valAx>
        <c:axId val="16211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7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EF6-589A-44B4-8142-AFA6CE77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712-323D-4E76-8136-3CAF5C54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3D7-EC10-427E-99A8-B0D4B404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DB1-EEF8-4FBB-890D-4116B3CA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5A5-4726-410C-B088-B541B59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63B-7EA4-44E5-AB8D-63196846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6D3-33FE-43BE-8086-E21DA6C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5C0-9C41-41FC-B7E0-03E8D628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32B-1C29-4C7F-96D1-0841D027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D46-1590-4BE3-99D3-5A94077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555-52E9-44CA-BAAB-B771F090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694-553F-4FC7-9AAC-87AF611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D105-1AE5-4984-BBE1-5603BA9195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