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68089"/>
        <c:axId val="72000602"/>
      </c:barChart>
      <c:catAx>
        <c:axId val="33568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00602"/>
        <c:crosses val="autoZero"/>
        <c:auto val="1"/>
        <c:lblAlgn val="ctr"/>
        <c:lblOffset val="100"/>
        <c:noMultiLvlLbl val="0"/>
      </c:catAx>
      <c:valAx>
        <c:axId val="72000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68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3CE-0288-408D-81BB-386D2D97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6A1-36E6-4AE6-A2EC-B5BEC9E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AB4-A46A-4807-8690-22752177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603-3E66-4F7F-8F38-15CFB762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BD5-4F8F-4AF9-94FA-A80F49E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BD3-F8B5-46F2-9CE8-88DC8366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67C-7427-4F04-BB19-56373FF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3C4-976A-49B9-A326-F705C27B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D57-E125-475D-BACE-E340EE6F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642-76C3-4915-A6B9-58692C8D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08A-FEC0-4ECF-AD40-24DCB53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D9E-BAEE-4BFB-8486-EB019C8E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5EEF3-403F-43AD-B75A-B51B5A4FE4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