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36817"/>
        <c:axId val="87373644"/>
      </c:barChart>
      <c:catAx>
        <c:axId val="97236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73644"/>
        <c:crosses val="autoZero"/>
        <c:auto val="1"/>
        <c:lblAlgn val="ctr"/>
        <c:lblOffset val="100"/>
        <c:noMultiLvlLbl val="0"/>
      </c:catAx>
      <c:valAx>
        <c:axId val="87373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36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094-0A26-48B2-8370-F3F3F96C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23A-A512-4F1B-BA03-F217247A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251-BEDF-4EF2-BBF9-B0D8A284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167-C1BE-481A-91A0-AEE86D4F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07C-FF4F-4C53-B4D7-9E446856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852-EEAF-48D9-9A9E-D3C5AF7A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CF3-3666-4FCA-8102-FBFA5088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479-CF27-47E9-AF93-6A0A144E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47B-9B20-4434-9636-13DC4F4B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6A4-3332-4145-B913-D5F4729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DAA-6BE3-431D-8A3B-F738768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098-ADF3-4B04-8B44-7223203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8D29B-8059-4F8D-A86B-CB125EC543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