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205643"/>
        <c:axId val="75288586"/>
      </c:barChart>
      <c:catAx>
        <c:axId val="582056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288586"/>
        <c:crosses val="autoZero"/>
        <c:auto val="1"/>
        <c:lblAlgn val="ctr"/>
        <c:lblOffset val="100"/>
        <c:noMultiLvlLbl val="0"/>
      </c:catAx>
      <c:valAx>
        <c:axId val="752885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2056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4A87-EFBF-4118-AC69-48C9341A4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C2A3-4239-43C9-B85F-9233319A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A4E4-430F-4650-8518-2EBD1767C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A2DE-C35D-40A7-885A-3F1E0EF8C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FF12-C16A-488E-9FD6-3D11246C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6FEB-2F6C-48B2-A544-29478184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B0DA-E1AF-4E67-823E-19F2C57A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199A-2008-4BDC-B531-4D017600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C5F9-C092-4CAA-B41F-37F96D19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2EA7-33BE-481B-8E49-CAC1FEAC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BF8F-3AEC-48F5-95AB-F329DCB7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5260-A70B-40C4-BCF4-193FD747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6A1AE9-9325-4128-9624-01A94EF03E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