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02449"/>
        <c:axId val="7997962"/>
      </c:barChart>
      <c:catAx>
        <c:axId val="78102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7962"/>
        <c:crosses val="autoZero"/>
        <c:auto val="1"/>
        <c:lblAlgn val="ctr"/>
        <c:lblOffset val="100"/>
        <c:noMultiLvlLbl val="0"/>
      </c:catAx>
      <c:valAx>
        <c:axId val="7997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02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E37-5E07-4AA5-938D-4B5604F7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154-8F24-4C18-89C1-BB3DADE8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712-DD74-474B-B311-F23ABB4E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8B0-FB5A-4C65-9E3E-AA002441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B2F-7E50-4413-B22B-7A46FC85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E65-6929-45BF-BBD8-66B6CD3F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C1A-CA8E-4E65-BD2B-CBFFD6A9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92C-3DA0-44A8-BC1A-C9864567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582-9716-48AB-AB64-C46F1C62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DEE-D25A-49A7-BB84-06E2CF8F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C4F-195A-467D-852E-E77C755C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475-8AD7-4853-AF40-89A032A1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F97D9-53C1-44BE-82BB-606CF2EFFF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