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8154"/>
        <c:axId val="37388376"/>
      </c:barChart>
      <c:catAx>
        <c:axId val="4708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88376"/>
        <c:crosses val="autoZero"/>
        <c:auto val="1"/>
        <c:lblAlgn val="ctr"/>
        <c:lblOffset val="100"/>
        <c:noMultiLvlLbl val="0"/>
      </c:catAx>
      <c:valAx>
        <c:axId val="37388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8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60B-98FD-4218-968E-8FB2E65F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9C2-889C-4BC5-B20E-5DAEBF57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879-E6D0-465B-8F8C-7764D946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779-322D-4568-BC31-A58FF76B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D84-F976-40F9-8CC2-DB5E7B2E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B1E-9BA4-4487-B2C9-BE55D4D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461-824D-419E-86EE-406FA09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B7A-0726-467C-A1D3-62A0725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884-674B-4514-9CBF-036649DD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DD7-A279-40FF-81E3-4EB70FF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A6C-C170-4F05-9647-9747140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557-3ACC-4AC0-BFBB-0E6EC2F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8774-58D4-41E0-A19C-0AE022357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